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2019-8C13-423A-B034-0DB33369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C4E7-51A4-403A-876C-CAD136DF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6148-147E-4502-BFF1-ADC942B7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CB9C6-964F-4759-9B8D-05CEDA4E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F27E-9CB0-40D3-A047-C4A5DD4F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3CB8-4497-425D-94AA-852E995B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EAFA-96E9-42A1-BBE6-DB930DB6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F7E7-9C01-4AC5-90C2-4548D8FA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CB63-2EB9-4A73-957B-6ECC4B35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8FE3-C69D-4C72-BA92-3AB555EF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5207-2EF7-4EE8-ABB9-E0330924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4985-6BD8-4E77-A7EE-B25A7F1E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3289-912E-4F37-A8B7-83D0D7B6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FBD4-FB29-478C-813D-A5C5113D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4394-042E-49EB-9A6D-4F18E7D3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F3D9-A20A-432F-A152-6D34BB36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508D-F003-4ED5-AC70-3D0AB58B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1CB8-1171-4344-9AEC-7EBF7368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95D8-A04F-48B0-BD24-E0F007C7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6A06-FCEF-4AD8-AD39-B2022C2A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9B72-9CE6-4101-82AF-A2B44CD7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4ACB-8976-4526-974A-547282B3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AF8A-B3C0-4C3E-8087-0A06B5D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2B5B-4DEC-4711-A9E0-396EA228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C5E6-58CD-4394-8C3B-B117871A37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AA6F-5538-43B9-B3E5-0EDEE906CA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rious Messeng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41120" y="3024360"/>
            <a:ext cx="698652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erious about delivering mess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Kevin Scrog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rey Faib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k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featured instant messaging client designed in Ja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ble of running on multiple platf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interactive and user-friendly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-designed back-end protocol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ent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rname, Nickname, Status, Contact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Pro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e, E-Mail, Location, Gender, Birthday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izable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/Delete/Block Cont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 Files (Time Permitt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rver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Authenticates various client chang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(ie. login, password, adding contacts, etc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onnecting Cli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lient Information Stora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ata stored using SQL Server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Interactive GUI for monitoring/debugg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eliable, customizable, user-friendly, fully-featured instant messaging cli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cution Pl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557360"/>
          <a:ext cx="8424720" cy="5084640"/>
        </p:xfrm>
        <a:graphic>
          <a:graphicData uri="http://schemas.openxmlformats.org/drawingml/2006/table">
            <a:tbl>
              <a:tblPr/>
              <a:tblGrid>
                <a:gridCol w="5256360"/>
                <a:gridCol w="3168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etion 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cke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tocol De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abase Managemen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Ser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tworking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Clien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lf-Done (Nov 1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ensive Tes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ra Features + Finishing Touches (Time Permittin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cember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1:09:36Z</dcterms:created>
  <dc:creator>Kevin Scroggins</dc:creator>
  <dc:description/>
  <dc:language>en-US</dc:language>
  <cp:lastModifiedBy>Kevin Scroggins</cp:lastModifiedBy>
  <dcterms:modified xsi:type="dcterms:W3CDTF">2010-11-02T13:00:01Z</dcterms:modified>
  <cp:revision>5</cp:revision>
  <dc:subject/>
  <dc:title>Serious Messenger</dc:title>
</cp:coreProperties>
</file>